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F1AB-C91B-42CE-977F-B71A38F7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FD9-AC33-4480-9D0F-56236BD6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E00-F6AC-49A8-A8FA-96DB4E89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0B8-5720-45F0-B6C8-865B745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A48-7397-414F-8F47-519FFBC5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E3D-8FE7-48AB-95BD-2FC602A1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C17-86CD-43E6-A229-8A054386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534-679D-4B6C-B0CB-69D57C2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650-9EEF-4C81-A7A4-54EFCBD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282-D49F-4615-A301-46D5387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38F-BAC3-437E-AB7C-B86D40E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C25-1CFB-4E9C-BD04-7787CE9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CAA-9A2B-4A52-B644-EE96125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F43-62B9-41D0-A6BE-5704B0E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FE1-692E-4275-A2F1-044C8799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kovachl/My%20Documents/VAST%202011/Lab%20buffer.docx" TargetMode="External"/><Relationship Id="rId2" Type="http://schemas.openxmlformats.org/officeDocument/2006/relationships/hyperlink" Target="file:///C:/Documents%20and%20Settings/kovachl/My%20Documents/VAST%202011/Lab%20diffusion%20osmosis.docx" TargetMode="External"/><Relationship Id="rId3" Type="http://schemas.openxmlformats.org/officeDocument/2006/relationships/hyperlink" Target="file:///C:/Documents%20and%20Settings/kovachl/My%20Documents/VAST%202011/LAB%20fFall%20color%20pigments%20paper%20chromatography%20home.docx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steward1/home/KovachL/POGIL/Matter,%20nuclear%20reactions.docx" TargetMode="External"/><Relationship Id="rId2" Type="http://schemas.openxmlformats.org/officeDocument/2006/relationships/hyperlink" Target="file:///../POGIL/Ionic%20Compounds,%20formation.docx" TargetMode="External"/><Relationship Id="rId3" Type="http://schemas.openxmlformats.org/officeDocument/2006/relationships/hyperlink" Target="file:///../Chemistry/Labs/Bowling%20for%20Density%202011.docx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68400"/>
            <a:ext cx="693432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for Biology and 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6520" y="3048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Greenlee,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ie Kovach,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ward School, Richmond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ogo steward.gif"/>
          <p:cNvPicPr/>
          <p:nvPr/>
        </p:nvPicPr>
        <p:blipFill>
          <a:blip r:embed="rId1"/>
          <a:srcRect l="30612" t="0" r="30083" b="22229"/>
          <a:stretch/>
        </p:blipFill>
        <p:spPr>
          <a:xfrm>
            <a:off x="2997360" y="4724280"/>
            <a:ext cx="129528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ttp://people.uleth.ca/~em.pijlzieber/brainh.gif"/>
          <p:cNvPicPr/>
          <p:nvPr/>
        </p:nvPicPr>
        <p:blipFill>
          <a:blip r:embed="rId1"/>
          <a:stretch/>
        </p:blipFill>
        <p:spPr>
          <a:xfrm>
            <a:off x="2171880" y="1828800"/>
            <a:ext cx="213336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304920" y="4267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eel free to contact us if you have an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Mary.Greenlee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Leslie.Kovach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Lear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28954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involves the thinking, reading, writing, or research that gives meaning to hands-on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opose issues or problems; probe, collect, and analyze data; draw conclusions; and ask new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216.photobucket.com/albums/cc173/celticlass188/question_mark.jpg"/>
          <p:cNvPicPr/>
          <p:nvPr/>
        </p:nvPicPr>
        <p:blipFill>
          <a:blip r:embed="rId1"/>
          <a:stretch/>
        </p:blipFill>
        <p:spPr>
          <a:xfrm>
            <a:off x="4940280" y="838080"/>
            <a:ext cx="1981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Features of Inqui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5238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gin with a question that can be answered in a scientific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ly on evidence in attempting to 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form an explanation to answer the question based on evidenc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valuate thei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mmunicate and justify their proposed expla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the National Science Edu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762120"/>
            <a:ext cx="67053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240" y="16002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vestigate a question posed by the teacher using student designed or selected proced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www.masternewmedia.org/images/students_experimenting_419554_88258128_350.jpg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828440"/>
            <a:ext cx="6858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raditional activities to inquiry or guided inqui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“let go” of som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pent is not necessarily increased over tradition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till perform well on standardiz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96760"/>
            <a:ext cx="6705720" cy="12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smosis and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7920"/>
            <a:ext cx="6705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clear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wling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521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Levels of Inquiry http://edweb.sdsu.edu/wip/four_level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ogi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in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American Chemical Societ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ations of Chemistry, Applying POGIL Princi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Pacific Crest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2133720"/>
            <a:ext cx="7010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:  https://kovachchemistr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portal:  http://guest.portaportal.com/kov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8:23:16Z</dcterms:created>
  <dc:creator>kovachl</dc:creator>
  <dc:description/>
  <cp:keywords/>
  <dc:language>en-US</dc:language>
  <cp:lastModifiedBy>Kovach, Leslie</cp:lastModifiedBy>
  <dcterms:modified xsi:type="dcterms:W3CDTF">2011-11-17T15:49:25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